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73AF-82A4-4217-92FD-C208CCC9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64D-62B5-40E8-B622-85F9200B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810-7395-4488-B3DD-489F8A8A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709-8754-410B-BCAF-5D9592ED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9564-685B-4E66-ABFD-5FDF3A14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3CB3-1E42-45D1-AC53-F005ED23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953F-7D50-4D3F-89EF-1E0F3466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FF7A-ECDA-4C0D-A710-DD714784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0ECF-7250-4DA5-B7A7-88C2A542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68EE-689D-44DC-B88A-7D4B4D56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1722-52B4-4B77-8A0E-394EF61D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A3F-B72E-4ECE-B56B-EE452A2E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F367-C20F-42C6-9A99-4CFD429A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E955-D8CF-43CE-B765-0A99E249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FCF3-86B4-4824-B9EB-9FC594A4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B039-21A1-4BE6-9218-EC784E66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42A2-F872-40C0-BF1D-93F07D6B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5C94-4369-4983-822E-600B63B1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5F7D-BA93-4CAB-BC01-50CD611C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BAE-83E9-4E75-A802-213ECEAE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1E0-76FF-491B-8E30-7583CB70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246-6583-41BD-B7EA-D5D9C81A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390-2ACA-49E5-BA85-6D406B6A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945-935C-43DB-BD94-231A9F47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55C5-758D-4C28-87A6-45E4AFBB54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4B58-7059-4E02-B233-2487064011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auren Pursel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inde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indeer live in the north pole near Santa and his elves!!! I sure hope they have been good this year or here comes the co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reindeer" descr=""/>
          <p:cNvPicPr/>
          <p:nvPr/>
        </p:nvPicPr>
        <p:blipFill>
          <a:blip r:embed="rId1"/>
          <a:stretch/>
        </p:blipFill>
        <p:spPr>
          <a:xfrm>
            <a:off x="4648320" y="4267080"/>
            <a:ext cx="4495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bunny" descr=""/>
          <p:cNvPicPr/>
          <p:nvPr/>
        </p:nvPicPr>
        <p:blipFill>
          <a:blip r:embed="rId1"/>
          <a:stretch/>
        </p:blipFill>
        <p:spPr>
          <a:xfrm>
            <a:off x="0" y="1447920"/>
            <a:ext cx="9220320" cy="5410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0" y="-152280"/>
            <a:ext cx="8958240" cy="159048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Bunni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5638680"/>
            <a:ext cx="1371600" cy="121932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257800"/>
            <a:ext cx="1295640" cy="1600200"/>
          </a:xfrm>
          <a:prstGeom prst="irregularSeal2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"/>
          <p:cNvCxnSpPr>
            <a:endCxn id="95" idx="0"/>
          </p:cNvCxnSpPr>
          <p:nvPr/>
        </p:nvCxnSpPr>
        <p:spPr>
          <a:xfrm>
            <a:off x="4419360" y="1218960"/>
            <a:ext cx="19116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ro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21:27:48Z</dcterms:created>
  <dc:creator>jeff</dc:creator>
  <dc:description/>
  <dc:language>en-US</dc:language>
  <cp:lastModifiedBy>jeff</cp:lastModifiedBy>
  <dcterms:modified xsi:type="dcterms:W3CDTF">2008-11-23T20:12:58Z</dcterms:modified>
  <cp:revision>3</cp:revision>
  <dc:subject/>
  <dc:title>Animals</dc:title>
</cp:coreProperties>
</file>